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0E8E-2CEA-4A2C-92CA-DAE2E5BAB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77A2-4824-4D74-AAD4-3F4F1129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FFDE-3254-42C4-A066-68C8C4E90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F54E-DE18-4201-816F-5B72B3C12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6B9C-FB30-4FBE-A32A-BEC4F343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5286-5AB3-471A-AD3B-6D80DF0B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C51D-7467-4D5F-BF61-FE0A2782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6BE0-55BD-4B4A-BAEE-A0AAE238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0618-C4F3-452B-83B4-7D182EE6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1425-85E0-4100-930E-755AFEBC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B205-533F-4306-A3CD-4D2F294C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B060-03EA-4DF4-B0AC-FEF8F07B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1E7C-F361-465C-8147-9B15D86E2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81160" y="638280"/>
          <a:ext cx="629892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160" y="638280"/>
                    <a:ext cx="6298920" cy="4105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36440" y="46080"/>
            <a:ext cx="660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mparison FLOWer vs. TAU - AS-B airf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87280" y="4797360"/>
          <a:ext cx="6299280" cy="410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280" y="4797360"/>
                    <a:ext cx="6299280" cy="4105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479600" y="2836800"/>
            <a:ext cx="6062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7,07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9,05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9,05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3424320"/>
            <a:ext cx="444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8,0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8,75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94000" y="1347840"/>
            <a:ext cx="97452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7,7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8,4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7,1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52680" y="6719760"/>
            <a:ext cx="6062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1,68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9,8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9,8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59040" y="7307280"/>
            <a:ext cx="549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,52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,3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86080" y="5183280"/>
            <a:ext cx="99360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5,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1,2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5,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42920" y="436680"/>
          <a:ext cx="6592680" cy="42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436680"/>
                    <a:ext cx="6592680" cy="42242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136440" y="46080"/>
            <a:ext cx="660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mparison CFL(LUSGS) - TAU, AS-B airf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39680" y="4730760"/>
          <a:ext cx="6593040" cy="42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680" y="4730760"/>
                    <a:ext cx="6593040" cy="42242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129120" y="1881360"/>
            <a:ext cx="3181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op of residual: 2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17720" y="6176880"/>
            <a:ext cx="3181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op of residual: 2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2160" y="73080"/>
            <a:ext cx="4896000" cy="4465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92160" y="4538520"/>
            <a:ext cx="48960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88920" y="109440"/>
            <a:ext cx="4902120" cy="4444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77760" y="4575240"/>
            <a:ext cx="49132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517" t="710" r="17567" b="355"/>
          <a:stretch/>
        </p:blipFill>
        <p:spPr>
          <a:xfrm>
            <a:off x="936720" y="171360"/>
            <a:ext cx="5024520" cy="4415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05040" y="4457880"/>
            <a:ext cx="50641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920" y="25560"/>
            <a:ext cx="3651120" cy="3292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206880" y="2611440"/>
            <a:ext cx="3651120" cy="3292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1160" y="5842080"/>
            <a:ext cx="36511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13:57:40Z</dcterms:created>
  <dc:creator>Dr. Andreas Krumbein</dc:creator>
  <dc:description/>
  <dc:language>en-US</dc:language>
  <cp:lastModifiedBy>Dr. Andreas Krumbein</cp:lastModifiedBy>
  <dcterms:modified xsi:type="dcterms:W3CDTF">2007-09-18T11:10:47Z</dcterms:modified>
  <cp:revision>57</cp:revision>
  <dc:subject/>
  <dc:title>Folie 1</dc:title>
</cp:coreProperties>
</file>